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512-6B99-42BB-A1B9-3B3748EB29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3ED0-B1D7-4426-836C-635E947354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C42-34D6-471D-9FC2-C584032421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23E2-9DB2-44A8-891A-470E71CB11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3B9F-54F3-4A9F-A249-92B04EA0BC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876-B1EA-4A1B-9B21-08C496068F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3CD2-81E3-4EC2-AEB9-C768C85BCF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99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65EE-241E-4D6A-9089-AB8622A424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8908-E03A-4A0D-8A07-7F227D9954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BF13-98D5-4EE5-A863-CBCDEF13DB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D74A-A021-4E20-B400-1D0D01064F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83E2-F170-473C-A98D-753B501908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EE6F-AE73-4B82-B9F5-6D5B0F1787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3BD-E2CD-49C2-9BA0-231B6180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522-DB05-402B-B314-38D8C6A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C8C-4F14-4370-8382-95C790E3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A87-D87E-4167-8BEB-E80E8356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85E9-82FA-40B0-83B6-731D08FE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1C0-0AB1-44EF-B688-B5370311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7C4D-1E07-4827-A28C-E68755C3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2732-C4F3-4C87-934D-3B252BB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869-01FB-4506-9849-6747D566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4F4-5509-4EC8-8E8F-95DBAB6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DCC1-3E90-4C72-916B-4BA3347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069-DA12-4C23-8832-262223F6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697-0FDE-4457-9986-796C73DF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9C5-3432-40F9-954D-3BBDF1B1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6C6-8F87-470D-B08F-03A2868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F971-8736-4073-929D-35273693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A316-A5D5-4073-864A-C0120F25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6714-BC1B-4499-B2C9-0BE11719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FF79-BC20-4FCC-B35C-63FAC8EE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8562-3F17-4BE0-A3D9-09CAB18A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21F5-8B6C-4173-9666-C7ED577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027D-84F4-44FC-A5E0-C1587503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D66-9CD5-4E2C-A215-842D888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D4D3-5335-464D-BACA-D7D524A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EBAD-61E4-41E2-AA54-32976F8E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A5B1-A7A5-4EA7-AF88-83529DF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EFA2-1D33-4F06-91A7-80B68E8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E597-3A06-4510-80C8-1C672A27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CE3B-BB15-440D-9158-DD95088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3837-8855-44E0-85F9-0C1E06FA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7249-2935-44F9-8564-E785A294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7ED10-6FE1-44BE-B83E-2A6BF8E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3A72-3A67-4157-BEAF-36D59CF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245-A71C-428E-8249-B431FD72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C8FF-3FE6-4CA2-ABFA-A785B4F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74B4-26D0-4496-8687-15F37BDF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5C56-8702-4926-ACCA-0E0D1E2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4EE1-6E3E-4871-95D2-76E3217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4D57-A7FA-488B-B675-40D3F34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2C35-FBD9-486F-B148-DD664F0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4DB0-3269-488C-AEF6-FC2528F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BC99-2C33-4363-90B6-0BDE94E8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DA23-6DC1-4A26-91C0-EF5994EC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0B4-50BE-4A29-8602-DD42D8B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3AD-CF05-4997-8FF3-CAAC54B1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B57-09F3-4AFE-90EE-4BC4972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072-463F-4835-B8FC-0E8EC44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0AE-15B4-4CEA-AF84-ADEC921D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245-DE3E-46E7-8476-CD885C825D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10" descr="ancient china logo"/>
          <p:cNvPicPr/>
          <p:nvPr/>
        </p:nvPicPr>
        <p:blipFill>
          <a:blip r:embed="rId2"/>
          <a:stretch/>
        </p:blipFill>
        <p:spPr>
          <a:xfrm>
            <a:off x="6516720" y="333360"/>
            <a:ext cx="2200320" cy="106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27C6-846E-42B6-A4BB-470D77B8DC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979D-83F8-4D12-9013-790422125A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F9B-A91B-4DC9-BC93-DA685F4576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ina.mrdonn.org/index.html" TargetMode="External"/><Relationship Id="rId3" Type="http://schemas.openxmlformats.org/officeDocument/2006/relationships/hyperlink" Target="http://www.pppst.com/clipart.html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523880" y="1676520"/>
            <a:ext cx="6553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Ancient Chinese DRAG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well 03b dragon"/>
          <p:cNvPicPr/>
          <p:nvPr/>
        </p:nvPicPr>
        <p:blipFill>
          <a:blip r:embed="rId1"/>
          <a:stretch/>
        </p:blipFill>
        <p:spPr>
          <a:xfrm>
            <a:off x="3886200" y="358128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562720" y="5359320"/>
            <a:ext cx="3581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Written by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Sylfaen"/>
                <a:hlinkClick r:id="rId2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lfaen"/>
              </a:rPr>
              <a:t>Illustrated by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Sylfaen"/>
                <a:hlinkClick r:id="rId3"/>
              </a:rPr>
              <a:t>Phillip Mar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740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Metal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09480" y="18288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Metal dragons are gol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92200" y="2451240"/>
            <a:ext cx="412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metals and precious gems.  These dragons succeed because they refuse to accept fail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dragon 07"/>
          <p:cNvPicPr/>
          <p:nvPr/>
        </p:nvPicPr>
        <p:blipFill>
          <a:blip r:embed="rId1"/>
          <a:stretch/>
        </p:blipFill>
        <p:spPr>
          <a:xfrm>
            <a:off x="4070520" y="2421000"/>
            <a:ext cx="5686200" cy="4162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609480" y="4648320"/>
            <a:ext cx="403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little caring for the feeling of others. These dragons are quite selfis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40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Water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09480" y="182880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bbc7ed"/>
                </a:solidFill>
                <a:latin typeface="Arial"/>
                <a:ea typeface="Times New Roman"/>
              </a:rPr>
              <a:t>Water dragons are blue</a:t>
            </a:r>
            <a:r>
              <a:rPr b="0" lang="en-US" sz="2800" spc="-1" strike="noStrike">
                <a:solidFill>
                  <a:srgbClr val="bbc7ed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11280" y="2532240"/>
            <a:ext cx="376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rivers, rain, wells, and water.  They get along well with peopl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282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now how to accept defeat and how to rebui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8" descr="dragon 08"/>
          <p:cNvPicPr/>
          <p:nvPr/>
        </p:nvPicPr>
        <p:blipFill>
          <a:blip r:embed="rId1"/>
          <a:stretch/>
        </p:blipFill>
        <p:spPr>
          <a:xfrm>
            <a:off x="3587760" y="2535120"/>
            <a:ext cx="54482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0836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Conclus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828800"/>
            <a:ext cx="821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ce the ancient Chinese firmly believed that dragons were real and had special magical powers, dragons were an important part of ancient Chinese daily lif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44400" y="52293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09480" y="373392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were blamed for a great deal that went wrong, and credited with things that went righ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09480" y="52578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agons were (and still are) a fun ancient Chinese inven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dragon 02"/>
          <p:cNvPicPr/>
          <p:nvPr/>
        </p:nvPicPr>
        <p:blipFill>
          <a:blip r:embed="rId1"/>
          <a:stretch/>
        </p:blipFill>
        <p:spPr>
          <a:xfrm>
            <a:off x="5784840" y="4076640"/>
            <a:ext cx="3324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In the world of fantastic animals, the dragon is unique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5" descr="_x000c_dragon19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5838840" y="0"/>
            <a:ext cx="330516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_x000c_dragon23.jpg                                                   0003D3A5_x000c_Macintosh HD                   ABA78158:"/>
          <p:cNvPicPr/>
          <p:nvPr/>
        </p:nvPicPr>
        <p:blipFill>
          <a:blip r:embed="rId2"/>
          <a:stretch/>
        </p:blipFill>
        <p:spPr>
          <a:xfrm>
            <a:off x="0" y="1905120"/>
            <a:ext cx="485784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 other creature has appeared in such a rich variety of forms. It is as though there was once a whole family of different dragon species that really existed, before they mysteriously became extin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5" descr="_x000c_dragon15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200400" y="304920"/>
            <a:ext cx="5943600" cy="63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_x000c_dragon08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2133720" y="0"/>
            <a:ext cx="54846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_x000c_dragon09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_x000c_dragon22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_x000c_dragon18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80880" y="-31680"/>
            <a:ext cx="8458200" cy="688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_x000c_dragon11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990720" y="0"/>
            <a:ext cx="6837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09480" y="1828800"/>
            <a:ext cx="821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day, we know that magical dragons exist only in imagination and myth.  They a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yth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rea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44400" y="52293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609480" y="341784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t in ancient China, the people firmly believed that dragons were real and powerful. The dragon was the sign of the emper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609480" y="50292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time,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Drago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ecame a nickname for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0" descr="well 03b dragon"/>
          <p:cNvPicPr/>
          <p:nvPr/>
        </p:nvPicPr>
        <p:blipFill>
          <a:blip r:embed="rId1"/>
          <a:stretch/>
        </p:blipFill>
        <p:spPr>
          <a:xfrm>
            <a:off x="6705720" y="464832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_x000c_dragon07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447920" y="0"/>
            <a:ext cx="5595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_x000b_dragon9.gif                                                    0003D3C4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_x0011_dragon200x300.gif                                              0003D3C4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_x000c_dragon04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3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_x000c_dragon20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_x000c_dragon02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838080" y="-12600"/>
            <a:ext cx="7467840" cy="687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_x000c_dragon17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_x000c_dragon06.jpg                                                   0003D3A5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8288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ancient China, dragons were thought to be wise, caring, and a bit mischievo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57200" y="288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di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eathe fire. They had personalities.  They had magical power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533520" y="39625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could appear and  disappear whenever they wan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533520" y="571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could turn into beasts if  they were angr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0" descr="dragon 02"/>
          <p:cNvPicPr/>
          <p:nvPr/>
        </p:nvPicPr>
        <p:blipFill>
          <a:blip r:embed="rId1"/>
          <a:stretch/>
        </p:blipFill>
        <p:spPr>
          <a:xfrm>
            <a:off x="5029200" y="3276720"/>
            <a:ext cx="33242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68360" y="1773360"/>
            <a:ext cx="49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agons in ancient China were a composite (a mix) of parts from different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8" descr="dragon 03"/>
          <p:cNvPicPr/>
          <p:nvPr/>
        </p:nvPicPr>
        <p:blipFill>
          <a:blip r:embed="rId1"/>
          <a:stretch/>
        </p:blipFill>
        <p:spPr>
          <a:xfrm>
            <a:off x="5292720" y="1413000"/>
            <a:ext cx="3753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17680" y="1752480"/>
            <a:ext cx="51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mythical creatures 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800" y="2286000"/>
            <a:ext cx="24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09480" y="556272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d whis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09480" y="2362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camel hea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09480" y="281952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nake nec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609480" y="3276720"/>
            <a:ext cx="19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sh scal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09480" y="3733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gle claw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609480" y="41911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iger paw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09480" y="4648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x ear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09480" y="5105520"/>
            <a:ext cx="20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er hor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5" descr="dragon 03"/>
          <p:cNvPicPr/>
          <p:nvPr/>
        </p:nvPicPr>
        <p:blipFill>
          <a:blip r:embed="rId1"/>
          <a:stretch/>
        </p:blipFill>
        <p:spPr>
          <a:xfrm>
            <a:off x="4343400" y="1371600"/>
            <a:ext cx="3753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Ancient Chin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5" name="Picture 4" descr="dragon 03"/>
          <p:cNvPicPr/>
          <p:nvPr/>
        </p:nvPicPr>
        <p:blipFill>
          <a:blip r:embed="rId1"/>
          <a:stretch/>
        </p:blipFill>
        <p:spPr>
          <a:xfrm>
            <a:off x="4343400" y="1447920"/>
            <a:ext cx="3753000" cy="4819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17680" y="2057400"/>
            <a:ext cx="466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ir job in ancient China was to act as guard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Wood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8288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e1c3b9"/>
                </a:solidFill>
                <a:latin typeface="Arial"/>
                <a:ea typeface="Times New Roman"/>
              </a:rPr>
              <a:t>Wood dragons are brow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611280" y="465300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not as selfish as the other dragons. They share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11280" y="289260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forest.  They are imaginative and curious, and come up with brilliant new id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54120" y="6067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dragon 04"/>
          <p:cNvPicPr/>
          <p:nvPr/>
        </p:nvPicPr>
        <p:blipFill>
          <a:blip r:embed="rId1"/>
          <a:stretch/>
        </p:blipFill>
        <p:spPr>
          <a:xfrm>
            <a:off x="4073400" y="2065320"/>
            <a:ext cx="5070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640" y="3808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Fire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09480" y="1828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ire dragons are r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92200" y="2570040"/>
            <a:ext cx="53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wind, fire, lightning and sk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92200" y="3657600"/>
            <a:ext cx="347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dragons are t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going and short-temper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9" descr="dragon 05"/>
          <p:cNvPicPr/>
          <p:nvPr/>
        </p:nvPicPr>
        <p:blipFill>
          <a:blip r:embed="rId1"/>
          <a:stretch/>
        </p:blipFill>
        <p:spPr>
          <a:xfrm>
            <a:off x="3657600" y="2286000"/>
            <a:ext cx="5695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46800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Sylfaen"/>
              </a:rPr>
              <a:t>Earth Drag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666720" y="182880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gend says …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Earth dragons are green.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665280" y="2714760"/>
            <a:ext cx="441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uard the earth, the crops, and the mountai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now the val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oper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0" descr="dragon 06"/>
          <p:cNvPicPr/>
          <p:nvPr/>
        </p:nvPicPr>
        <p:blipFill>
          <a:blip r:embed="rId1"/>
          <a:stretch/>
        </p:blipFill>
        <p:spPr>
          <a:xfrm>
            <a:off x="2273400" y="2421000"/>
            <a:ext cx="67626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1:00:10Z</dcterms:created>
  <dc:creator>Lin Donn</dc:creator>
  <dc:description>Illustrated by Phillip Martin</dc:description>
  <dc:language>en-US</dc:language>
  <cp:lastModifiedBy>Laura Ruggles</cp:lastModifiedBy>
  <dcterms:modified xsi:type="dcterms:W3CDTF">2012-12-06T14:03:31Z</dcterms:modified>
  <cp:revision>79</cp:revision>
  <dc:subject/>
  <dc:title>Ancient Chinese Dragons</dc:title>
</cp:coreProperties>
</file>